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A47-27C7-438E-A462-CDD3376A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8786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915-3510-494E-A799-D0612700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E62-6D76-481B-9676-71808E09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159-7F19-4167-9264-EA9DFE2D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1097-43C1-4547-B527-A0E4740F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36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E928-7CD1-4BCF-B697-F4B1D917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18E8-3007-4031-992E-BE2FA3D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7385-7CA1-4661-9D9E-775F6EDC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686F-C6C6-4392-8D77-4A47546D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76000" y="304920"/>
            <a:ext cx="7134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36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6018-53BA-4669-9546-BA519FF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EDEF-E4A6-4609-B2B0-AD842F74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36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816-619B-43D2-9A31-428AB20A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116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3760-8CDD-474D-B661-09E4202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124-8DE3-42F5-B5D8-7798E25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99840" y="38786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2F6-9EBA-49F5-8339-66E6FB3D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116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2FB4-181D-472D-8C1F-457DE422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9600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216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9984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9600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216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7D84-487C-4B24-A8BF-793D47C8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A82A-D06F-4351-A6D8-2A8AAAA2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36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EEEE-5C64-487A-A678-A86036FF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C61C-EEA7-4274-83A6-4E3C4784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828D-03C3-490C-9FB8-13CCE45C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A95E-BA11-4BD1-BC57-2112CA2B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B81-352B-4469-8B11-91CA1C4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76000" y="304920"/>
            <a:ext cx="7134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36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B4C9-CE16-4457-A3A0-BD2360CC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3F37-A2B6-462A-9FF6-F2AD4814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3116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B795-EE07-47C6-BC4E-B69E3BA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A8E4-69A5-44D8-A1CD-82CE95E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599840" y="38786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E296-43B7-4BCB-BDE5-3EDEA9BF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116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1B01-9C7F-4DB5-94BD-27089DCB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9600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9216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59984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99600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9216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1BBC-0E15-4F2E-95B5-A675696D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9BA0-4731-469F-8A31-E3042D28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36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1B08-15CA-40A9-8C62-520B7450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B46F-0A91-4A29-9176-40DA34AD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D0A-677C-4371-BE4D-6E45E406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8E4E-BCBB-4FC8-AE65-316D174A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8F0E-2A13-4F72-A6D0-FE1CB75E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76000" y="304920"/>
            <a:ext cx="7134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36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1C35-5E9B-4ADE-A34E-564AD11E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5A08-4435-4852-96F9-7FF17C16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23116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3399C-FC1A-43AF-8795-FEB4AF1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E2FAF-93AC-4B49-A9BF-D75A589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99840" y="38786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85E6-867D-4406-9232-1AB52127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23116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3EC8-7D3D-4F93-9C6D-86144169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9600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92160" y="13712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9984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99600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92160" y="387864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1946-42F3-435C-8651-1DDD0A27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2AC-721E-42F4-B890-F71B1F9B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000" y="304920"/>
            <a:ext cx="7134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36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4D2-8B46-4BC7-BB21-E806B95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B62-D010-48A7-9C85-2BEDF58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8786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615-EC37-457B-8389-71CF0C6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37124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87864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804-B393-4448-B18B-9A16146A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04920"/>
            <a:ext cx="71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015-ED7A-409C-ACEE-9C89D7C5A03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b2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b2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b2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b2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b2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b2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0b2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8120" y="1676160"/>
            <a:ext cx="700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1F5B-BC1A-4EAE-A059-3161B5972A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439-F64D-4BDD-8CC3-B73123AE1901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5480" y="1143000"/>
            <a:ext cx="5562720" cy="228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25EC-C4B3-42A1-AF82-EADD338666FA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95480" y="1143000"/>
            <a:ext cx="5562720" cy="228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onstitution and Civic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Articles of Confederation</a:t>
            </a:r>
            <a:endParaRPr b="1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The first “constitution” of the 13 states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Establish the name “The United States of America”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Give equality of power to the states, but acknowledge a union between them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Define the powers of the central government (foreign relations, war, money, etc.)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52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1148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590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0b27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590b27"/>
                </a:solidFill>
                <a:latin typeface="Arial"/>
              </a:rPr>
              <a:t>Articles of Confederation needed to be fixed.</a:t>
            </a:r>
            <a:endParaRPr b="0" lang="en-US" sz="2300" spc="-1" strike="noStrike">
              <a:solidFill>
                <a:srgbClr val="590b27"/>
              </a:solidFill>
              <a:latin typeface="Arial"/>
            </a:endParaRPr>
          </a:p>
          <a:p>
            <a:pPr>
              <a:buClr>
                <a:srgbClr val="590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0b27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590b27"/>
                </a:solidFill>
                <a:latin typeface="Arial"/>
              </a:rPr>
              <a:t>Government must be able to tax, enforce laws, regulate commerce…</a:t>
            </a:r>
            <a:endParaRPr b="0" lang="en-US" sz="2300" spc="-1" strike="noStrike">
              <a:solidFill>
                <a:srgbClr val="590b27"/>
              </a:solidFill>
              <a:latin typeface="Arial"/>
            </a:endParaRPr>
          </a:p>
          <a:p>
            <a:pPr>
              <a:buClr>
                <a:srgbClr val="590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0b27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590b27"/>
                </a:solidFill>
                <a:latin typeface="Arial"/>
              </a:rPr>
              <a:t>Protect against abuse of power by dividing government into 3 branches.</a:t>
            </a:r>
            <a:endParaRPr b="0" lang="en-US" sz="2300" spc="-1" strike="noStrike">
              <a:solidFill>
                <a:srgbClr val="590b2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74640" y="3340080"/>
            <a:ext cx="64976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Constitutional Convention Agreements</a:t>
            </a:r>
            <a:endParaRPr b="0" lang="en-US" sz="3100" spc="-1" strike="noStrike">
              <a:solidFill>
                <a:srgbClr val="590b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99840" y="13712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0b2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Bill of Rights - First 10 Amendments</a:t>
            </a:r>
            <a:endParaRPr b="1" i="1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1) Freedom of speech, press, religion, assembly, and </a:t>
            </a: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  petition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2) Right to keep and bear arms. 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3) No soldier shall be quartered in any house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4) Protection from searches and seizures w/o a warrant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5) Right to remain silent; protection from double jeopardy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6) Right to a speedy trial, witnesses, lawyer, etc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7) Right to a trial by a jury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8) Protection from excessive bail and cruel punishment.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9) Rights not specifically enumerated in the Constitution. 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90b27"/>
                </a:solidFill>
                <a:latin typeface="Arial"/>
              </a:rPr>
              <a:t>10) Powers not given to the US in the Constitution are reserved to the States.  </a:t>
            </a:r>
            <a:endParaRPr b="0" lang="en-US" sz="2100" spc="-1" strike="noStrike">
              <a:solidFill>
                <a:srgbClr val="590b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b27"/>
                </a:solidFill>
                <a:latin typeface="Arial"/>
              </a:rPr>
              <a:t>US President - Barack Obama</a:t>
            </a:r>
            <a:endParaRPr b="0" lang="en-US" sz="28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b27"/>
                </a:solidFill>
                <a:latin typeface="Arial"/>
              </a:rPr>
              <a:t>Vice President - Joe Biden</a:t>
            </a:r>
            <a:endParaRPr b="0" lang="en-US" sz="28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b27"/>
                </a:solidFill>
                <a:latin typeface="Arial"/>
              </a:rPr>
              <a:t>Supreme Court Chief Justice - John Roberts</a:t>
            </a:r>
            <a:endParaRPr b="0" lang="en-US" sz="28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b27"/>
                </a:solidFill>
                <a:latin typeface="Arial"/>
              </a:rPr>
              <a:t>Maine Governor - John Baldacci</a:t>
            </a:r>
            <a:endParaRPr b="0" lang="en-US" sz="28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b27"/>
                </a:solidFill>
                <a:latin typeface="Arial"/>
              </a:rPr>
              <a:t>Maine Senators - Susan Collins and Olympia Snowe</a:t>
            </a:r>
            <a:endParaRPr b="0" lang="en-US" sz="2800" spc="-1" strike="noStrike">
              <a:solidFill>
                <a:srgbClr val="590b2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0b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0b27"/>
                </a:solidFill>
                <a:latin typeface="Arial"/>
              </a:rPr>
              <a:t>Maine Representatives - Chellie Pingree and Michael Michaud </a:t>
            </a:r>
            <a:endParaRPr b="0" lang="en-US" sz="2800" spc="-1" strike="noStrike">
              <a:solidFill>
                <a:srgbClr val="590b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3:43:12Z</dcterms:created>
  <dc:creator>Yarmouth Schools</dc:creator>
  <dc:description/>
  <dc:language>en-US</dc:language>
  <cp:lastModifiedBy>YHS Teacher</cp:lastModifiedBy>
  <dcterms:modified xsi:type="dcterms:W3CDTF">2009-06-15T15:03:20Z</dcterms:modified>
  <cp:revision>9</cp:revision>
  <dc:subject/>
  <dc:title>Constitution and Civics</dc:title>
</cp:coreProperties>
</file>